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F80-5E1D-49C9-8EC0-23A1D0B46C5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6B1A-AEA7-4A7A-8457-EFE1573F891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6833-69E9-4D3B-9FB5-49C7983B2C4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D770-546C-406C-88ED-C0440FD4C94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E807-1BFE-4CA5-99DF-457C9BAA6AA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2B98-9D8B-4321-B9E7-7F4F5E430E1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F406-EAB4-4489-AFB4-63E6B7B50AB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015F-6EBD-4AAC-BFDB-566991FA3D8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DC5E-53F2-466F-A13E-A063AA54BFA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CDCC-2166-4CEB-8B8A-9F3190FAC73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A3B9-A047-4F29-B4B8-8C1F0F67C8E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2312-AE21-46BA-900F-7D67E5B8566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5232-EE5E-4F52-BE1B-12D5C970728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79C-820C-453D-8A51-4A44DCB1D0D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8B7F-6AB1-4551-9711-F72B6ADC57C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A17D-1378-449F-A96F-02E52771CCC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4512-16BD-4986-85E7-0C447014F21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B546-89D2-485B-8780-CB046C68042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5099-67C7-4D1B-9782-4CF123DB28E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198B-5041-4A33-ACE9-02C6D5C4A62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CFA5-F468-4939-B193-E80D304CADD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6FDC-E11D-4D07-B98D-4FA5D66AB3C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8AA4-1D60-46FD-AB2D-D961AF4C402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3042-5999-4DE0-91ED-03DE91FEF62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7308-51DA-4A7D-9417-737851C4022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46D6-723C-4DB6-82DD-60102CFBDA0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EEF1-D035-4DA8-9C66-1564D141AF2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0E1A-B888-4784-B539-20637DBB712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E18D-8153-44B2-8316-A674050B7FD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B162-6387-459D-BFBC-E91CDDE86C3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43A0-ACB0-4F6D-ADE4-69F778F6995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2C4C-3E87-4529-8324-84666FC2379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9C69-B3F5-43A1-B592-D9EF7FE79BD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CDBE-3D7B-44A5-9C1E-746E209B974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1194-4B3D-4A73-A968-AA62553E4DB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610F-ED81-41BB-8E81-0A8693FFC61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6A61-CD02-4AD9-AA88-9954184093C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964E-5D32-454B-A4CE-E3CC0064A5A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353F-8F7F-4D24-8410-F7EE75B8F03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CC2E-DB5B-42BE-9A3A-2D57F2C92B4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F61B-3233-461D-BE69-028296B2929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592C-EF62-46FA-847F-52C192D086C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6628-8A5F-4823-8D7A-08BA41796D6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1F06-8CBD-4F77-97F5-4B5E323AE4B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69E5-8926-42F2-BC61-3C029EB4C4A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2E3F-F911-4CE7-8844-731E1833B39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F07C-1D11-4E4C-B368-8C4EE5D7DE9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B20B-0DF8-4D8B-A0A9-E401FB82405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F04D-FF64-4358-80F3-9A46902BF12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AC2F-9C22-473A-8FB9-9A587DC0DD1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823D-C0A6-470E-8B08-9C11F2424D1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0CC2-2DC0-49BD-BDC9-718C33FE313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F035-5DBF-4344-87BA-4AE184ABDC3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ED7F-A2D2-46BD-91A4-8BDD109F94A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4CBC-F4BC-4A2E-AD0B-147040C5F9E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EEF5-4DBC-495E-9F18-908422658BB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D65B-96EA-458C-92DF-4014B685405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2E57-5247-4EAD-BC44-1266715A899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2548-C648-40E3-9B53-744BDFB13D0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3249-1613-4FAF-9E7C-D3C0C235B20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082C-EA60-4B9D-944E-CB613B86CD5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6B7-F9DA-478A-87F6-2C0C2DD639D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CC9C-0867-4B6C-BC62-CE7606473F0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7A2A-C1BD-4DB8-9985-3C7C237EB5A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66A7-201E-433B-8872-BA478EB5D70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CF81-D69E-4260-BCD6-4F0C3CEB265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4028-79F1-4CA7-8AEE-7BE9C418591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BCAA-4A48-4A1E-A2D3-193803AC217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7132-518F-4901-87C6-1E0F38A657A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826C-0126-4D60-AF70-FCF3B8B33ED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6B11-6360-4675-834C-1D34C3490B7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310A-7F97-495A-A57E-FF287481D26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7943-955F-4306-AA70-67473DD3EB9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B407-CE09-493C-9E63-93D950FFB3E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58F9-E321-4D3C-960F-0B9DAE29E27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2878-4121-45EF-A5A2-0C4F5430433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7210-BEB8-4398-89F0-52B185C73C2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B390-2347-4F0B-A366-07BD28E27AE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D6A2-DF47-4437-81B0-1C1FA9BB790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985B-1FAB-4BB4-AD3A-41AB328D809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69C6-2B50-4CDC-B701-747A738180C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0C46-FB66-4670-803B-1415B2FE2F4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5A3D-251C-46E8-B382-0A7585E2171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E945-B756-44D2-A6F3-9F800092E4A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30A6-C3D4-48B5-AA96-C4760CE2F10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BF12-B417-45C9-9827-F47B3B86B10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0B0A-0B95-4923-9D66-11787357CE2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75B4-6496-412B-BD14-DA22344A34A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28C1-7980-484D-B17B-5120684B479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B546-D061-495F-A88B-EC40D3F9606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76D0-3631-4DF6-9C2C-042A6FCFD8A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AC68-C350-4AA9-858D-020634AE3D5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24AF-C584-4C4D-BC39-CD3012FEC92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BE9B-EA25-438D-93F6-FC8F3E1EA4D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DC4C-5C5E-4001-A137-847934694E3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CE3C-EE8F-42EA-9E4F-C40A7B3587C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2B32-853F-4ACB-80BC-68EE950B9B5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676D-70F1-4DFE-BE21-16AD564E162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9F32-66EE-4241-945E-299C2681C25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AC8D-5700-4FA2-A824-4FDB1C26758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28FA-EE7C-4B02-9D8E-FC0403E8A36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EAA1-5D58-4006-BF98-28578AE00C3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609A-CADE-4904-8368-55439DA4141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1F86-0C52-45FB-80FA-6CC39BC47B0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49A9-2271-485F-9C85-FE543F0D7B4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FC4A-F41D-46FA-B778-A9D423391E9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3E1-78B6-4A56-9B9B-E9477CC4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4FE-2F19-4369-BCBB-62F23BC3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E46-70BE-4E62-A1DC-6B528D5C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A67-FD12-4A29-9B6F-07E9F7F4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03D9-9B0C-4984-82EF-A535E568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CAF7-F1B4-4113-866C-B40A6C2D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0366-0443-4631-B609-6A848E28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BCD6-5A2D-4122-A052-1EBF115D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6F5F-0998-4731-9D53-50B646E0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B113-F4CA-43D6-A7ED-2931A4F7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0733-1088-4FBE-9C87-3176BFB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48D-6076-4876-A64D-D20FE3FF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26F8-A44F-4EA9-84B9-EAAC2533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5C55-3292-4018-99FC-5AB574E8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0282-0322-47AF-B740-8B6A377F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3326-A910-48EE-951E-67337880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FDDB-ED10-4650-A5CE-8AC4AA45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753-755A-44CE-A9D1-7F52877B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4DA-569D-4EA7-8EF9-846D5DE2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455-851C-42CF-B1CE-BD32A18A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C3E-72C7-431B-ACBA-3050E7EC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844-8836-413D-AD3F-19046CEF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695-4677-48C0-AFE9-39C491E6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0A5-C10B-47F2-9D4F-2A3F47EE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06B4-DC03-49A4-8A27-B62762305A3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CFD55FC-562C-424D-B7A8-3E7CFEAC35F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3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5F06-06F5-4C30-BAFC-BC89BEFABB6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3152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Haettenschweiler"/>
              </a:rPr>
              <a:t>CHAPTER  twe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83CD-1006-4423-9AE1-924C9CE36170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B4785E68-4723-422C-A12C-9471FFC5486A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25E4-BE85-41A5-8427-1378E1927B7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29718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462-10B0-4665-AF75-961CF8E0D8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74648-9B10-4C07-B889-AE2B0B58A3A4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解答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24000" y="1125360"/>
            <a:ext cx="8569080" cy="2469600"/>
            <a:chOff x="324000" y="1125360"/>
            <a:chExt cx="8569080" cy="2469600"/>
          </a:xfrm>
        </p:grpSpPr>
        <p:sp>
          <p:nvSpPr>
            <p:cNvPr id="138" name=""/>
            <p:cNvSpPr/>
            <p:nvPr/>
          </p:nvSpPr>
          <p:spPr>
            <a:xfrm>
              <a:off x="324000" y="1125360"/>
              <a:ext cx="8569080" cy="24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3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非主对角线位置分成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/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组，每组包含元素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j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据反对称的性质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j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取值有以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可能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1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j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；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0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j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；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j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0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所有这些位置元素的选择方法数为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再考虑到主对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线元素的选取，由乘法法则总方法数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076720" y="2493720"/>
              <a:ext cx="2165400" cy="936720"/>
              <a:chOff x="5076720" y="2493720"/>
              <a:chExt cx="2165400" cy="936720"/>
            </a:xfrm>
          </p:grpSpPr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5076720" y="2493720"/>
                    <a:ext cx="1086120" cy="495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1" name=""/>
                  <p:cNvSpPr txBox="1"/>
                  <p:nvPr/>
                </p:nvSpPr>
                <p:spPr>
                  <a:xfrm>
                    <a:off x="5580000" y="2838240"/>
                    <a:ext cx="1662120" cy="592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42" name=""/>
          <p:cNvSpPr/>
          <p:nvPr/>
        </p:nvSpPr>
        <p:spPr>
          <a:xfrm>
            <a:off x="324000" y="3645000"/>
            <a:ext cx="8569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任何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函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具有下述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{&lt;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gt;,…,&lt;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每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2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可能的选择，根据乘法法则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的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双射的，那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以后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可能的取值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取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双射函数的方法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…1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!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6D3-4DEB-4934-BE0D-517F50D32E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FA904-5CC9-4150-A21A-8243E7F2D612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68360" y="3860640"/>
          <a:ext cx="8137440" cy="2305080"/>
        </p:xfrm>
        <a:graphic>
          <a:graphicData uri="http://schemas.openxmlformats.org/drawingml/2006/table">
            <a:tbl>
              <a:tblPr/>
              <a:tblGrid>
                <a:gridCol w="503280"/>
                <a:gridCol w="234720"/>
                <a:gridCol w="262080"/>
                <a:gridCol w="236520"/>
                <a:gridCol w="262080"/>
                <a:gridCol w="234720"/>
                <a:gridCol w="600120"/>
                <a:gridCol w="1986120"/>
                <a:gridCol w="1935000"/>
                <a:gridCol w="18828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tid  (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sted     (2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tid (1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stid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tid (2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hostid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位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2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2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例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Ipv4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网址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28772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地址   网络标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机标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：最大网络；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：中等网络；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小网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多路广播；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备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限制条件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111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中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t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分无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ost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分不允许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E5E-6FAE-459F-8CC5-2478B85197D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E43FD-FB54-4817-B1AC-05CD3CF711DF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tid         hosti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+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，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+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，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0+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限制条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111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中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t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分无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ost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分不允许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tid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hosted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7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7772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30706178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tid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hosted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384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553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73709056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tid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hosted 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9715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32676608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73709184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解答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8D8-5AA4-4323-A070-C4E1BB7290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224B6-5BEE-456A-BC2C-13B0BDA92400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1484280"/>
            <a:ext cx="7821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取问题：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集合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选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是否有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否允许重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该问题分为四个子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2120" y="2593800"/>
          <a:ext cx="7595640" cy="1696680"/>
        </p:xfrm>
        <a:graphic>
          <a:graphicData uri="http://schemas.openxmlformats.org/drawingml/2006/table">
            <a:tbl>
              <a:tblPr/>
              <a:tblGrid>
                <a:gridCol w="2067120"/>
                <a:gridCol w="2922120"/>
                <a:gridCol w="2606400"/>
              </a:tblGrid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重复选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重复选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序选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集合的排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重集的排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序选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集合的组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重集的组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2.2 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排列与组合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9F5-252F-4BC1-83E3-DCF49535B6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E2007-F1E5-47C4-A990-A7FBFB37161E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1197000"/>
            <a:ext cx="799128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12.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有序选取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称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 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排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不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列总数记作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排列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全排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无序选取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称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不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总数记作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集合的排列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42920" y="3902040"/>
                <a:ext cx="38847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  <m:r>
                                    <m:t xml:space="preserve">!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≥</m:t>
                              </m:r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42920" y="5135400"/>
                <a:ext cx="534204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n</m:t>
                                  </m:r>
                                  <m:r>
                                    <m:t xml:space="preserve">!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!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≥</m:t>
                              </m:r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84360" y="34290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1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自然数，规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!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7CE-22B5-4377-A56E-C475E0EE08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70D5E-B5EC-4E4A-9EE7-2E178E4503FD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考虑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情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列的第一个元素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选择的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列的第二个元素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选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的方式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乘法法则，总的选法数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(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…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) 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两步构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无序地选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，然后再构造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的全排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序选择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的方法数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针对每种选法，能构造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的全排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乘法法则，不同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列数满足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称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二项式系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记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9160" y="3801960"/>
            <a:ext cx="83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5445000"/>
            <a:ext cx="762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证明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554800" y="2681280"/>
                <a:ext cx="8888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651640" y="5013360"/>
                <a:ext cx="436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755-E5C0-4758-8224-5A3EEAA2AF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DE321-5312-43D6-B6AF-04566951C373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075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正整数，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推论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124000" y="1512720"/>
                <a:ext cx="18702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433440" y="3879720"/>
            <a:ext cx="845964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1, 2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集合，对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任意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都存在一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之对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然不同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对应了不同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，反之也对，因此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数恰好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数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为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Pascal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公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也对应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杨辉三角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3141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明方法：公式代入并化简，组合证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89A-D525-4CE4-A245-857EA818B1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5F9BC-432F-4921-B6B8-9CE8EAFC04BC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杨辉三角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478160" y="1243080"/>
            <a:ext cx="6260760" cy="4852080"/>
            <a:chOff x="1478160" y="1243080"/>
            <a:chExt cx="6260760" cy="4852080"/>
          </a:xfrm>
        </p:grpSpPr>
        <p:grpSp>
          <p:nvGrpSpPr>
            <p:cNvPr id="176" name=""/>
            <p:cNvGrpSpPr/>
            <p:nvPr/>
          </p:nvGrpSpPr>
          <p:grpSpPr>
            <a:xfrm>
              <a:off x="1478160" y="1243080"/>
              <a:ext cx="6260760" cy="4852080"/>
              <a:chOff x="1478160" y="1243080"/>
              <a:chExt cx="6260760" cy="48520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3062520" y="2035080"/>
                <a:ext cx="3805560" cy="4060080"/>
                <a:chOff x="3062520" y="2035080"/>
                <a:chExt cx="3805560" cy="40600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795920" y="20350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502160" y="2636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078520" y="2636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213440" y="3213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789440" y="3213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65800" y="3213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925800" y="3789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02160" y="3789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083200" y="3789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659560" y="3789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637080" y="43653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213440" y="43653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795920" y="43653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70480" y="43653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349800" y="5013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925800" y="5013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429440" y="501300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05800" y="501300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48280" y="43653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062520" y="5635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37080" y="5635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42160" y="56354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18520" y="56354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653080" y="5013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294880" y="56354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42160" y="5635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29440" y="5013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518160" y="5635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4716360" y="242064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4427280" y="299520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4140000" y="3573360"/>
                  <a:ext cx="142560" cy="2887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3850920" y="4149360"/>
                  <a:ext cx="1422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563640" y="472572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3276360" y="537336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5005080" y="2997000"/>
                  <a:ext cx="142560" cy="2887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4716360" y="357156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4429080" y="414936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4140000" y="472572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3852720" y="5371920"/>
                  <a:ext cx="142560" cy="2887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292360" y="3646080"/>
                  <a:ext cx="1422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5003640" y="4221000"/>
                  <a:ext cx="142560" cy="2887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716360" y="472572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27280" y="5375160"/>
                  <a:ext cx="142560" cy="2887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>
                  <a:off x="5652720" y="4149360"/>
                  <a:ext cx="1422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5365440" y="479700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076720" y="537336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>
                  <a:off x="5868720" y="479556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5581440" y="537336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6156000" y="5373360"/>
                  <a:ext cx="1425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003640" y="2420640"/>
                  <a:ext cx="1440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92720" y="2997000"/>
                  <a:ext cx="144000" cy="2887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580000" y="3573360"/>
                  <a:ext cx="144000" cy="2887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868720" y="4149360"/>
                  <a:ext cx="1443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27640" y="4797000"/>
                  <a:ext cx="1440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516360" y="5373360"/>
                  <a:ext cx="1443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787640" y="2997000"/>
                  <a:ext cx="144360" cy="2887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074920" y="3644640"/>
                  <a:ext cx="1443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364000" y="4221000"/>
                  <a:ext cx="144000" cy="2887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651280" y="4797000"/>
                  <a:ext cx="1440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40360" y="5373360"/>
                  <a:ext cx="1440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427280" y="3573360"/>
                  <a:ext cx="144360" cy="2887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16360" y="4149360"/>
                  <a:ext cx="1440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03640" y="4725720"/>
                  <a:ext cx="1440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364000" y="5371920"/>
                  <a:ext cx="144000" cy="28872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140000" y="4149360"/>
                  <a:ext cx="1440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427280" y="4725720"/>
                  <a:ext cx="1443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787640" y="5373360"/>
                  <a:ext cx="14436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51280" y="4725720"/>
                  <a:ext cx="1440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211640" y="5373360"/>
                  <a:ext cx="1440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635280" y="5373360"/>
                  <a:ext cx="144000" cy="28908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1478160" y="1886040"/>
                <a:ext cx="75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478160" y="2535120"/>
                <a:ext cx="75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78160" y="3157560"/>
                <a:ext cx="75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78160" y="3733920"/>
                <a:ext cx="75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78160" y="4381560"/>
                <a:ext cx="75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78160" y="4957560"/>
                <a:ext cx="75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78160" y="5559480"/>
                <a:ext cx="75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94160" y="1243080"/>
                <a:ext cx="7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81440" y="1819080"/>
                <a:ext cx="7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87800" y="2452680"/>
                <a:ext cx="7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175440" y="3029040"/>
                <a:ext cx="7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462720" y="3605040"/>
                <a:ext cx="7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807240" y="4179960"/>
                <a:ext cx="7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8720" y="4755960"/>
                <a:ext cx="7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076720" y="1603440"/>
                <a:ext cx="28764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292720" y="2252520"/>
                <a:ext cx="28728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5653080" y="2827080"/>
                <a:ext cx="287280" cy="5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5940360" y="3403440"/>
                <a:ext cx="28764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6229440" y="3979800"/>
                <a:ext cx="28728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516720" y="4556160"/>
                <a:ext cx="28728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805800" y="5203800"/>
                <a:ext cx="28728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2484360" y="217944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13080" y="282744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3080" y="34750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13080" y="40510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13080" y="462744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13080" y="52038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13080" y="585144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412-5CB7-4E08-9C52-7593624E305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B2376-AACA-4187-8CE2-C5F628F212FE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多重集的排列与组合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14130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2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重集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元素的总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有序选取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称为多重集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 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排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排列称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全排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无序选取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称作多重集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组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重集中元素的重复度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∞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表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复选取的次数没有限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集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1EF-09E8-4815-BE90-F6ACEDFB3C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A2C23-EA9D-4A87-BF0A-D451FD4BAF49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多重集的排列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78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2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多重集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全排列数是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2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列数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132000" y="1628640"/>
                <a:ext cx="15843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95280" y="3141720"/>
            <a:ext cx="8353440" cy="3166920"/>
            <a:chOff x="395280" y="3141720"/>
            <a:chExt cx="8353440" cy="3166920"/>
          </a:xfrm>
        </p:grpSpPr>
        <p:sp>
          <p:nvSpPr>
            <p:cNvPr id="286" name=""/>
            <p:cNvSpPr/>
            <p:nvPr/>
          </p:nvSpPr>
          <p:spPr>
            <a:xfrm>
              <a:off x="395280" y="3141720"/>
              <a:ext cx="835344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明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1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方法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有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方法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…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最后有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方法放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根据乘法法则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2)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位置中的每个位置都有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选法，由乘法法则得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755640" y="4129200"/>
                  <a:ext cx="7632720" cy="13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,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,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,n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!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!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!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!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!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!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C30-E125-4E0D-B3C3-6FD75F0A0F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78957-8E59-4DBA-B372-E5EE93F1AB87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692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第四部分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组合数学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Part Four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500" spc="-1" strike="noStrike">
                <a:solidFill>
                  <a:srgbClr val="000000"/>
                </a:solidFill>
                <a:latin typeface="Times New Roman"/>
              </a:rPr>
              <a:t>Combinatorial Mathematics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C57-A9C1-41FB-8B5C-22DF1CBA04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B2F8B-3DED-4CB5-81EB-56D860926AD2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多重集的组合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" y="1268280"/>
            <a:ext cx="792000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12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重集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i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+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数为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+r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050920" y="5445000"/>
                <a:ext cx="3889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684360" y="2421000"/>
            <a:ext cx="79200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  一个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… 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非负整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个不定方程的非负整数解对应于下述排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…1 0 1…1 0 1…1 0 …… 0 1…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全排列数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86D-BD8E-41A6-BEBF-5D6EC58BEA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0BA90-ABE2-4C32-A8D9-C4B9F498CB4C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4360" y="126828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字母，使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恰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字母，求方法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2205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固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间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字母，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4,7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方法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它看作大字母与其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字母全排列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！种，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4,7) 18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组合计数的应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58880" y="4005360"/>
            <a:ext cx="7632720" cy="2449440"/>
            <a:chOff x="758880" y="4005360"/>
            <a:chExt cx="7632720" cy="2449440"/>
          </a:xfrm>
        </p:grpSpPr>
        <p:sp>
          <p:nvSpPr>
            <p:cNvPr id="297" name=""/>
            <p:cNvSpPr/>
            <p:nvPr/>
          </p:nvSpPr>
          <p:spPr>
            <a:xfrm>
              <a:off x="758880" y="4005360"/>
              <a:ext cx="76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解  相当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同的球放到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相同的盒子，每个盒子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，放法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1298880" y="4710240"/>
                  <a:ext cx="5726160" cy="17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,2</m:t>
                          </m:r>
                          <m:r>
                            <m:t xml:space="preserve">)</m:t>
                          </m:r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,2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,2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!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n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9" name=""/>
          <p:cNvSpPr/>
          <p:nvPr/>
        </p:nvSpPr>
        <p:spPr>
          <a:xfrm>
            <a:off x="755640" y="3573360"/>
            <a:ext cx="77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人分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，每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有多少分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CBC-364E-4E7A-9A83-E6C1FB2535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08D6C-7D61-4394-AECE-9FD7F38DCA91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68360" y="2406600"/>
            <a:ext cx="806436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使用一一对应的思想求解这个问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相邻的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属于集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1, 2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允许相邻的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属于集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1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应规则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.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2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=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341360"/>
            <a:ext cx="763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1, 2, … 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选择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相邻的数，有多少种方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一一对应的技巧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1E2-A795-4B77-9BC8-5E2EBB4193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85E4F-5C9F-48AD-AC87-4ADE6953ABA0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项式定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恒等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降路径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2.3 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二项式定理与组合恒等式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765-A023-457C-89B5-01A72C3433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9C0D7-0E4F-41BB-9937-47B934E0602B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二项式定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126828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宋体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2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正整数，对一切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f01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684440" y="1735200"/>
                <a:ext cx="30970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684360" y="3067200"/>
            <a:ext cx="7696080" cy="2679840"/>
            <a:chOff x="684360" y="3067200"/>
            <a:chExt cx="7696080" cy="2679840"/>
          </a:xfrm>
        </p:grpSpPr>
        <p:sp>
          <p:nvSpPr>
            <p:cNvPr id="311" name=""/>
            <p:cNvSpPr/>
            <p:nvPr/>
          </p:nvSpPr>
          <p:spPr>
            <a:xfrm>
              <a:off x="684360" y="3067200"/>
              <a:ext cx="7696080" cy="26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明方法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数学归纳法、组合分析法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  当乘积被展开时其中的项都是下述形式：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= 0, 1, 2, …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而构成形如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项，必须从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选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提供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其它的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提供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因此，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系数是       ，定理得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f01"/>
                  </a:solidFill>
                  <a:latin typeface="Arial"/>
                  <a:ea typeface="华文行楷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835360" y="4902120"/>
                  <a:ext cx="353880" cy="57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35F-9B75-4C63-A63A-32ABDC6DA6E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C942E-9D88-42AB-86CB-95B1C15A2505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二项式定理的应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84360" y="1700280"/>
            <a:ext cx="7462800" cy="3528720"/>
            <a:chOff x="684360" y="1700280"/>
            <a:chExt cx="7462800" cy="3528720"/>
          </a:xfrm>
        </p:grpSpPr>
        <p:sp>
          <p:nvSpPr>
            <p:cNvPr id="317" name=""/>
            <p:cNvSpPr/>
            <p:nvPr/>
          </p:nvSpPr>
          <p:spPr>
            <a:xfrm>
              <a:off x="684360" y="1700280"/>
              <a:ext cx="7462800" cy="32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解  由二项式定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令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=13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到展开式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系数，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1306440" y="2698560"/>
                  <a:ext cx="511200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i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1378080" y="4224240"/>
                  <a:ext cx="4286160" cy="10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</m:m>
                        </m:e>
                      </m:d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!</m:t>
                          </m:r>
                        </m:den>
                      </m:f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0" name=""/>
          <p:cNvSpPr/>
          <p:nvPr/>
        </p:nvSpPr>
        <p:spPr>
          <a:xfrm>
            <a:off x="684360" y="1343160"/>
            <a:ext cx="7632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展开式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系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830-F271-4CCE-A70E-8CAA7A83D6A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2165A-3D1F-4068-8446-C7BE91048AAD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组合恒等式：递推式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900000" y="1197000"/>
                <a:ext cx="280836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755640" y="3716280"/>
            <a:ext cx="7272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方法：公式代入、组合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用于化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用于求和时消去变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用于求和时拆项（两项之和或者差），然后合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885-405E-4E47-BB51-82DD9E9E7F7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D2805-54A4-4F42-A188-7B95AF9AD3E8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组合恒等式：基本求和式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26920" y="1413000"/>
                <a:ext cx="72597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</m:nary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68360" y="2486520"/>
            <a:ext cx="82090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证明公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法：二项式定理或者组合分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1,2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下面计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所有子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种方法就是分类处理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集合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子集个数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451640" y="3429000"/>
                <a:ext cx="4539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643280" y="4149720"/>
                <a:ext cx="792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826920" y="4221000"/>
            <a:ext cx="67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加法法则，子集总数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7080" y="5229360"/>
            <a:ext cx="799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一种方法是分步处理，为构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每个元素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选择，根据乘法法则，子集总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CDA-E22E-4804-9C40-75180D81116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E9C52-E64C-4F65-8246-ACFF2A226D63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恒等式求和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变系数和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971640" y="1341360"/>
                <a:ext cx="34909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e>
                        </m:nary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3284640"/>
            <a:ext cx="727236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明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项式定理、级数求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组合恒等式代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A51-D3F3-420D-B69E-3E56537561D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ADC55-8186-48DC-94A9-8002966C6F9E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050920" y="260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公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332000" y="1479600"/>
                <a:ext cx="5184720" cy="43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求导</m:t>
                        </m:r>
                      </m:e>
                      <m:e>
                        <m:r>
                          <m:t xml:space="preserve">n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k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令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BC5-69D8-4606-9020-E6CD2C15237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C62B0-8E6E-4AF6-9DCA-20D73928CBFB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数学的研究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存在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计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枚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优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书的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本的组合计数公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推方程与生成函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3943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四部分  组合数学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43B-9D1D-4857-9976-C7E1F1446B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736E5-8732-470F-B94C-24F7AC77E464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证明公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87280" y="1413000"/>
                <a:ext cx="6480360" cy="43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消去变系数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常量外提</m:t>
                            </m:r>
                          </m:e>
                        </m:nary>
                      </m:e>
                      <m:e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k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变限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9EB-5099-46A4-9696-5B9A70E65EF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9A8DB-1FF7-4086-A31B-8869FBEFAA69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恒等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变上项求和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826920" y="1268280"/>
                <a:ext cx="40006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l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6" name=""/>
          <p:cNvGrpSpPr/>
          <p:nvPr/>
        </p:nvGrpSpPr>
        <p:grpSpPr>
          <a:xfrm>
            <a:off x="684360" y="2477880"/>
            <a:ext cx="7883280" cy="2166120"/>
            <a:chOff x="684360" y="2477880"/>
            <a:chExt cx="7883280" cy="2166120"/>
          </a:xfrm>
        </p:grpSpPr>
        <p:sp>
          <p:nvSpPr>
            <p:cNvPr id="347" name=""/>
            <p:cNvSpPr/>
            <p:nvPr/>
          </p:nvSpPr>
          <p:spPr>
            <a:xfrm>
              <a:off x="684360" y="2477880"/>
              <a:ext cx="788328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证明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组合分析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令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{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… 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集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等式右边是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子集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考虑另一种分类计数的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法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将所有的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子集分成如下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类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第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类：含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剩下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元素取自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…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235640" y="4081680"/>
                  <a:ext cx="31536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k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9" name=""/>
          <p:cNvGrpSpPr/>
          <p:nvPr/>
        </p:nvGrpSpPr>
        <p:grpSpPr>
          <a:xfrm>
            <a:off x="756000" y="4437000"/>
            <a:ext cx="7488000" cy="578520"/>
            <a:chOff x="756000" y="4437000"/>
            <a:chExt cx="7488000" cy="57852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7667640" y="4437000"/>
                  <a:ext cx="576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k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756000" y="4489920"/>
              <a:ext cx="67219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第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类：不含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含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剩下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元素取自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… ,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018200" y="5318280"/>
                <a:ext cx="3873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395280" y="4762800"/>
            <a:ext cx="71834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含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含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剩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元素取自空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5805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加法法则公式得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C01-CF15-4F31-A56F-9BA80DB37F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CD261-D6C4-4C41-AC62-410A379A067A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恒等式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乘积转换式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900000" y="1268280"/>
                <a:ext cx="2808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19040" y="2349360"/>
            <a:ext cx="6345360" cy="3604680"/>
            <a:chOff x="1319040" y="2349360"/>
            <a:chExt cx="6345360" cy="3604680"/>
          </a:xfrm>
        </p:grpSpPr>
        <p:sp>
          <p:nvSpPr>
            <p:cNvPr id="360" name=""/>
            <p:cNvSpPr/>
            <p:nvPr/>
          </p:nvSpPr>
          <p:spPr>
            <a:xfrm>
              <a:off x="1319040" y="2349360"/>
              <a:ext cx="6345360" cy="36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明方法：组合分析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集中选取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元素，然后在这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元素中再选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同的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子集可能选出相同的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子集，例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, b, c, d, e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, </a:t>
              </a:r>
              <a:r>
                <a:rPr b="1" i="1" lang="zh-CN" sz="2400" spc="-1" strike="noStrike">
                  <a:solidFill>
                    <a:srgbClr val="990000"/>
                  </a:solidFill>
                  <a:latin typeface="Times New Roman"/>
                </a:rPr>
                <a:t>b, c, d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, c, d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zh-CN" sz="2400" spc="-1" strike="noStrike">
                  <a:solidFill>
                    <a:srgbClr val="990000"/>
                  </a:solidFill>
                  <a:latin typeface="Times New Roman"/>
                </a:rPr>
                <a:t>b, c, d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e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, c, d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}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重复度为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应用：将变下限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变成常数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求和时提到和号外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2387520" y="4633560"/>
                  <a:ext cx="744480" cy="66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2D6-F8EF-4571-B68B-4BE843F28D1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4B9E5-D444-4DA7-ADDB-36A2B6476491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恒等式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积之和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55640" y="1341360"/>
                <a:ext cx="712944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3213000"/>
                <a:ext cx="57801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755640" y="3357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5640" y="4250880"/>
            <a:ext cx="7848720" cy="19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证明思路：考虑集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式右边计数了从这两个集合中选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元素的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些选法按照含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元素的个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分类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1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然后使用加法法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DDB-41BE-4E83-A236-B99DD05CEC9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76767-4FEA-49DD-8CF0-43972F6357A5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组合恒等式解题方法小结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方法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恒等式带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项式定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幂级数的求导、积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纳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和方法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级数求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和的结果，然后使用归纳法证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已知的公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59A-1396-40AE-91FE-8A5297BE2E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F4302-365C-4C93-B0B9-3B772D4F85A4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非降路径的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2" name=""/>
          <p:cNvSpPr/>
          <p:nvPr/>
        </p:nvSpPr>
        <p:spPr>
          <a:xfrm>
            <a:off x="468360" y="1123200"/>
            <a:ext cx="77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0,0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降路径数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降路径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0,0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降路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,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降路径数：乘法法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12360" y="2923920"/>
            <a:ext cx="7199640" cy="3412800"/>
            <a:chOff x="612360" y="2923920"/>
            <a:chExt cx="7199640" cy="3412800"/>
          </a:xfrm>
        </p:grpSpPr>
        <p:grpSp>
          <p:nvGrpSpPr>
            <p:cNvPr id="374" name=""/>
            <p:cNvGrpSpPr/>
            <p:nvPr/>
          </p:nvGrpSpPr>
          <p:grpSpPr>
            <a:xfrm>
              <a:off x="1476360" y="2923920"/>
              <a:ext cx="6335640" cy="3348360"/>
              <a:chOff x="1476360" y="2923920"/>
              <a:chExt cx="6335640" cy="3348360"/>
            </a:xfrm>
          </p:grpSpPr>
          <p:sp>
            <p:nvSpPr>
              <p:cNvPr id="375" name=""/>
              <p:cNvSpPr/>
              <p:nvPr/>
            </p:nvSpPr>
            <p:spPr>
              <a:xfrm>
                <a:off x="1476360" y="6164280"/>
                <a:ext cx="108000" cy="108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547640" y="2923920"/>
                <a:ext cx="6264360" cy="3313440"/>
                <a:chOff x="1547640" y="2923920"/>
                <a:chExt cx="6264360" cy="33134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547640" y="6237360"/>
                  <a:ext cx="626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1547640" y="2923920"/>
                  <a:ext cx="0" cy="331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547640" y="3789360"/>
                  <a:ext cx="4969080" cy="2448000"/>
                </a:xfrm>
                <a:custGeom>
                  <a:avLst/>
                  <a:gdLst/>
                  <a:ahLst/>
                  <a:rect l="l" t="t" r="r" b="b"/>
                  <a:pathLst>
                    <a:path w="3130" h="1542">
                      <a:moveTo>
                        <a:pt x="0" y="1542"/>
                      </a:moveTo>
                      <a:lnTo>
                        <a:pt x="454" y="1542"/>
                      </a:lnTo>
                      <a:lnTo>
                        <a:pt x="454" y="907"/>
                      </a:lnTo>
                      <a:lnTo>
                        <a:pt x="1316" y="907"/>
                      </a:lnTo>
                      <a:lnTo>
                        <a:pt x="1316" y="635"/>
                      </a:lnTo>
                      <a:lnTo>
                        <a:pt x="1996" y="635"/>
                      </a:lnTo>
                      <a:lnTo>
                        <a:pt x="1996" y="0"/>
                      </a:lnTo>
                      <a:lnTo>
                        <a:pt x="313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408720" y="3716280"/>
                  <a:ext cx="108000" cy="1080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1" name=""/>
            <p:cNvSpPr/>
            <p:nvPr/>
          </p:nvSpPr>
          <p:spPr>
            <a:xfrm>
              <a:off x="6228360" y="3140280"/>
              <a:ext cx="86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2360" y="58770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0,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046-22A0-4061-93C6-3C747B694B7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EE7F7-8674-48D3-A9B8-DBC9A280A482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86280" y="1243440"/>
            <a:ext cx="461088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0,0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接触对角线的非降路径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0,0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不接触对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非降路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n</a:t>
            </a:r>
            <a:r>
              <a:rPr b="1" i="1" lang="zh-CN" sz="1800" spc="-1" strike="noStrike">
                <a:solidFill>
                  <a:srgbClr val="99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不接触对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非降路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n</a:t>
            </a:r>
            <a:r>
              <a:rPr b="1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降路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n</a:t>
            </a:r>
            <a:r>
              <a:rPr b="1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对角线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降路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5805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788000" y="2133360"/>
            <a:ext cx="0" cy="36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642560" y="2263680"/>
            <a:ext cx="4388400" cy="3903840"/>
            <a:chOff x="4642560" y="2263680"/>
            <a:chExt cx="4388400" cy="3903840"/>
          </a:xfrm>
        </p:grpSpPr>
        <p:grpSp>
          <p:nvGrpSpPr>
            <p:cNvPr id="387" name=""/>
            <p:cNvGrpSpPr/>
            <p:nvPr/>
          </p:nvGrpSpPr>
          <p:grpSpPr>
            <a:xfrm>
              <a:off x="4770000" y="2263680"/>
              <a:ext cx="3565800" cy="3565440"/>
              <a:chOff x="4770000" y="2263680"/>
              <a:chExt cx="3565800" cy="3565440"/>
            </a:xfrm>
          </p:grpSpPr>
          <p:sp>
            <p:nvSpPr>
              <p:cNvPr id="388" name=""/>
              <p:cNvSpPr/>
              <p:nvPr/>
            </p:nvSpPr>
            <p:spPr>
              <a:xfrm flipV="1">
                <a:off x="4806720" y="2263680"/>
                <a:ext cx="3529080" cy="35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70000" y="572112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311440" y="572112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03800" y="2624040"/>
                <a:ext cx="108000" cy="10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03800" y="312876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82720" y="3200040"/>
                <a:ext cx="2592720" cy="2592360"/>
              </a:xfrm>
              <a:custGeom>
                <a:avLst/>
                <a:gdLst/>
                <a:ahLst/>
                <a:rect l="l" t="t" r="r" b="b"/>
                <a:pathLst>
                  <a:path w="1633" h="1633">
                    <a:moveTo>
                      <a:pt x="0" y="1633"/>
                    </a:moveTo>
                    <a:lnTo>
                      <a:pt x="317" y="1633"/>
                    </a:lnTo>
                    <a:lnTo>
                      <a:pt x="317" y="1315"/>
                    </a:lnTo>
                    <a:lnTo>
                      <a:pt x="1179" y="1315"/>
                    </a:lnTo>
                    <a:lnTo>
                      <a:pt x="1179" y="544"/>
                    </a:lnTo>
                    <a:lnTo>
                      <a:pt x="1633" y="544"/>
                    </a:lnTo>
                    <a:lnTo>
                      <a:pt x="1633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4642560" y="5762520"/>
              <a:ext cx="67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0,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66360" y="5768640"/>
              <a:ext cx="67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,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76520" y="2862000"/>
              <a:ext cx="105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48160" y="2358720"/>
              <a:ext cx="79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1835280" y="2286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限制条件的非降路径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002-1379-48B9-A546-7E638EA3BE63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03E4F-A31A-4B6B-9A2B-8FC115FB5850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1042920" y="5300640"/>
                <a:ext cx="601200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765720" y="1341360"/>
            <a:ext cx="275796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n</a:t>
            </a:r>
            <a:r>
              <a:rPr b="1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对角线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降路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n</a:t>
            </a:r>
            <a:r>
              <a:rPr b="1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限制条件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降路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8101080" y="141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35280" y="209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一对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634560" y="1413000"/>
            <a:ext cx="5504760" cy="4250160"/>
            <a:chOff x="3634560" y="1413000"/>
            <a:chExt cx="5504760" cy="4250160"/>
          </a:xfrm>
        </p:grpSpPr>
        <p:sp>
          <p:nvSpPr>
            <p:cNvPr id="404" name=""/>
            <p:cNvSpPr/>
            <p:nvPr/>
          </p:nvSpPr>
          <p:spPr>
            <a:xfrm>
              <a:off x="4932360" y="2075040"/>
              <a:ext cx="3168720" cy="3225600"/>
            </a:xfrm>
            <a:custGeom>
              <a:avLst/>
              <a:gdLst/>
              <a:ahLst/>
              <a:rect l="l" t="t" r="r" b="b"/>
              <a:pathLst>
                <a:path w="1996" h="2032">
                  <a:moveTo>
                    <a:pt x="0" y="2032"/>
                  </a:moveTo>
                  <a:lnTo>
                    <a:pt x="390" y="2032"/>
                  </a:lnTo>
                  <a:lnTo>
                    <a:pt x="390" y="671"/>
                  </a:lnTo>
                  <a:lnTo>
                    <a:pt x="876" y="671"/>
                  </a:lnTo>
                  <a:lnTo>
                    <a:pt x="1655" y="671"/>
                  </a:lnTo>
                  <a:lnTo>
                    <a:pt x="1655" y="354"/>
                  </a:lnTo>
                  <a:lnTo>
                    <a:pt x="1996" y="354"/>
                  </a:lnTo>
                  <a:lnTo>
                    <a:pt x="199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3634560" y="1413000"/>
              <a:ext cx="5504760" cy="4250160"/>
              <a:chOff x="3634560" y="1413000"/>
              <a:chExt cx="5504760" cy="4250160"/>
            </a:xfrm>
          </p:grpSpPr>
          <p:sp>
            <p:nvSpPr>
              <p:cNvPr id="406" name=""/>
              <p:cNvSpPr/>
              <p:nvPr/>
            </p:nvSpPr>
            <p:spPr>
              <a:xfrm flipV="1">
                <a:off x="4356000" y="1483920"/>
                <a:ext cx="3745080" cy="37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95120" y="5264280"/>
                <a:ext cx="67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,0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634560" y="4413240"/>
                <a:ext cx="67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0,1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84880" y="1974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634560" y="5229360"/>
                <a:ext cx="67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0,0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151840" y="1469880"/>
                <a:ext cx="79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4284720" y="1413000"/>
                <a:ext cx="4390920" cy="3923280"/>
                <a:chOff x="4284720" y="1413000"/>
                <a:chExt cx="4390920" cy="3923280"/>
              </a:xfrm>
            </p:grpSpPr>
            <p:grpSp>
              <p:nvGrpSpPr>
                <p:cNvPr id="413" name=""/>
                <p:cNvGrpSpPr/>
                <p:nvPr/>
              </p:nvGrpSpPr>
              <p:grpSpPr>
                <a:xfrm>
                  <a:off x="4284720" y="1628280"/>
                  <a:ext cx="4390920" cy="3708000"/>
                  <a:chOff x="4284720" y="1628280"/>
                  <a:chExt cx="4390920" cy="37080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4356000" y="5300280"/>
                    <a:ext cx="4319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>
                    <a:off x="4356000" y="1628280"/>
                    <a:ext cx="0" cy="36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84720" y="5228640"/>
                    <a:ext cx="10800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859280" y="5228640"/>
                    <a:ext cx="10800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284720" y="4615920"/>
                    <a:ext cx="10800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8028000" y="2059920"/>
                    <a:ext cx="10800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372360" y="3068280"/>
                    <a:ext cx="107640" cy="107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1" name=""/>
                <p:cNvSpPr/>
                <p:nvPr/>
              </p:nvSpPr>
              <p:spPr>
                <a:xfrm>
                  <a:off x="8028000" y="1413000"/>
                  <a:ext cx="108000" cy="107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2" name=""/>
            <p:cNvSpPr/>
            <p:nvPr/>
          </p:nvSpPr>
          <p:spPr>
            <a:xfrm>
              <a:off x="4356000" y="3141720"/>
              <a:ext cx="2087640" cy="1511280"/>
            </a:xfrm>
            <a:custGeom>
              <a:avLst/>
              <a:gdLst/>
              <a:ahLst/>
              <a:rect l="l" t="t" r="r" b="b"/>
              <a:pathLst>
                <a:path w="1315" h="952">
                  <a:moveTo>
                    <a:pt x="0" y="952"/>
                  </a:moveTo>
                  <a:lnTo>
                    <a:pt x="0" y="544"/>
                  </a:lnTo>
                  <a:lnTo>
                    <a:pt x="1315" y="544"/>
                  </a:lnTo>
                  <a:lnTo>
                    <a:pt x="131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C21-90F3-4998-BE3E-52FFC96E1AD2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20C09-6B4A-48BB-84DC-21E7F6EBAC07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226200" y="2492280"/>
            <a:ext cx="1512720" cy="719280"/>
          </a:xfrm>
          <a:custGeom>
            <a:avLst/>
            <a:gdLst/>
            <a:ahLst/>
            <a:rect l="l" t="t" r="r" b="b"/>
            <a:pathLst>
              <a:path w="953" h="453">
                <a:moveTo>
                  <a:pt x="0" y="453"/>
                </a:moveTo>
                <a:lnTo>
                  <a:pt x="227" y="453"/>
                </a:lnTo>
                <a:lnTo>
                  <a:pt x="227" y="226"/>
                </a:lnTo>
                <a:lnTo>
                  <a:pt x="953" y="226"/>
                </a:lnTo>
                <a:lnTo>
                  <a:pt x="953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4000" y="1197000"/>
            <a:ext cx="6408720" cy="53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7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1,2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1,2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单调递增函数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,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降路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单调函数个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调递增函数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是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,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降路径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调函数数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严格单调递增函数、递减函数个数都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826920" y="4941720"/>
                <a:ext cx="18003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700360" y="4941720"/>
                <a:ext cx="215892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075280" y="4797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80000" y="3213000"/>
            <a:ext cx="287280" cy="576360"/>
          </a:xfrm>
          <a:custGeom>
            <a:avLst/>
            <a:gdLst/>
            <a:ahLst/>
            <a:rect l="l" t="t" r="r" b="b"/>
            <a:pathLst>
              <a:path w="181" h="363">
                <a:moveTo>
                  <a:pt x="0" y="363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5840" y="321300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732800" y="2060640"/>
            <a:ext cx="366480" cy="387360"/>
          </a:xfrm>
          <a:custGeom>
            <a:avLst/>
            <a:gdLst/>
            <a:ahLst/>
            <a:rect l="l" t="t" r="r" b="b"/>
            <a:pathLst>
              <a:path w="231" h="244">
                <a:moveTo>
                  <a:pt x="0" y="244"/>
                </a:moveTo>
                <a:lnTo>
                  <a:pt x="227" y="244"/>
                </a:lnTo>
                <a:lnTo>
                  <a:pt x="23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576760" y="3789000"/>
            <a:ext cx="180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785480" y="1699920"/>
            <a:ext cx="4259520" cy="3167280"/>
            <a:chOff x="4785480" y="1699920"/>
            <a:chExt cx="4259520" cy="3167280"/>
          </a:xfrm>
        </p:grpSpPr>
        <p:grpSp>
          <p:nvGrpSpPr>
            <p:cNvPr id="433" name=""/>
            <p:cNvGrpSpPr/>
            <p:nvPr/>
          </p:nvGrpSpPr>
          <p:grpSpPr>
            <a:xfrm>
              <a:off x="5148360" y="1699920"/>
              <a:ext cx="3456000" cy="3167280"/>
              <a:chOff x="5148360" y="1699920"/>
              <a:chExt cx="3456000" cy="3167280"/>
            </a:xfrm>
          </p:grpSpPr>
          <p:sp>
            <p:nvSpPr>
              <p:cNvPr id="434" name=""/>
              <p:cNvSpPr/>
              <p:nvPr/>
            </p:nvSpPr>
            <p:spPr>
              <a:xfrm>
                <a:off x="5148360" y="4867200"/>
                <a:ext cx="345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5148360" y="1699920"/>
                <a:ext cx="0" cy="31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785480" y="3352680"/>
              <a:ext cx="92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,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08720" y="371592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17120" y="2755800"/>
              <a:ext cx="92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,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96000" y="313992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56360" y="313992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17840" y="2035080"/>
              <a:ext cx="95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3360" y="174744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,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67640" y="241920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8000" y="198720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5508720" y="4241520"/>
              <a:ext cx="744480" cy="368280"/>
              <a:chOff x="5508720" y="4241520"/>
              <a:chExt cx="744480" cy="368280"/>
            </a:xfrm>
          </p:grpSpPr>
          <p:sp>
            <p:nvSpPr>
              <p:cNvPr id="446" name=""/>
              <p:cNvSpPr/>
              <p:nvPr/>
            </p:nvSpPr>
            <p:spPr>
              <a:xfrm>
                <a:off x="5508720" y="4434840"/>
                <a:ext cx="108000" cy="10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633640" y="4241520"/>
                <a:ext cx="61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1,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8" name=""/>
          <p:cNvSpPr/>
          <p:nvPr/>
        </p:nvSpPr>
        <p:spPr>
          <a:xfrm>
            <a:off x="1908000" y="260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单调函数计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569-FFDA-4DC2-853D-435CA5470942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ACD18-29D2-405C-9294-D511C0EC38C1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栈输出的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将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1, 2, … , 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n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按照顺序输入栈，有多少个不同的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出序列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析：将进栈、出栈分别记作 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x, y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出栈序列是 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个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个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的排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排列中任何前缀的 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个数不少于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的个数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等于从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0,0)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n,n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的不穿过对角线的非降路径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231-EAC9-44D0-AECF-D4D90B75B6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95BBD-27A7-4E1E-8E8B-A972EC2E25DE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第十二章 基本的组合计数公式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法法则与乘法法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列与组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项式定理与组合恒等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项式定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9DE-553E-40A5-B786-8B8044486C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4FEC2-22D0-4A9B-90F4-5AE257E1B683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754200" y="1659960"/>
            <a:ext cx="828180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输入： </a:t>
            </a:r>
            <a:r>
              <a:rPr b="1" lang="fr-FR" sz="2800" spc="-1" strike="noStrike">
                <a:solidFill>
                  <a:srgbClr val="333399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Times New Roman"/>
              </a:rPr>
              <a:t>2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Times New Roman"/>
              </a:rPr>
              <a:t>3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Times New Roman"/>
              </a:rPr>
              <a:t>4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Times New Roman"/>
              </a:rPr>
              <a:t>5,     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输出</a:t>
            </a:r>
            <a:r>
              <a:rPr b="1" lang="fr-FR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：</a:t>
            </a:r>
            <a:r>
              <a:rPr b="1" lang="fr-FR" sz="2800" spc="-1" strike="noStrike">
                <a:solidFill>
                  <a:srgbClr val="333399"/>
                </a:solidFill>
                <a:latin typeface="Times New Roman"/>
              </a:rPr>
              <a:t>3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Times New Roman"/>
              </a:rPr>
              <a:t>2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Times New Roman"/>
              </a:rPr>
              <a:t>4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Times New Roman"/>
              </a:rPr>
              <a:t>进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f01"/>
                </a:solidFill>
                <a:latin typeface="Times New Roman"/>
              </a:rPr>
              <a:t>进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f01"/>
                </a:solidFill>
                <a:latin typeface="Times New Roman"/>
              </a:rPr>
              <a:t>进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出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出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f01"/>
                </a:solidFill>
                <a:latin typeface="Times New Roman"/>
              </a:rPr>
              <a:t>进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出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出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f01"/>
                </a:solidFill>
                <a:latin typeface="Times New Roman"/>
              </a:rPr>
              <a:t>进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出 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cf01"/>
                </a:solidFill>
                <a:latin typeface="Times New Roman"/>
              </a:rPr>
              <a:t>x</a:t>
            </a:r>
            <a:r>
              <a:rPr b="1" i="1" lang="fr-FR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i="1" lang="fr-FR" sz="2800" spc="-1" strike="noStrike">
                <a:solidFill>
                  <a:srgbClr val="ffcf01"/>
                </a:solidFill>
                <a:latin typeface="Times New Roman"/>
              </a:rPr>
              <a:t>x</a:t>
            </a:r>
            <a:r>
              <a:rPr b="1" i="1" lang="fr-FR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i="1" lang="fr-FR" sz="2800" spc="-1" strike="noStrike">
                <a:solidFill>
                  <a:srgbClr val="ffcf01"/>
                </a:solidFill>
                <a:latin typeface="Times New Roman"/>
              </a:rPr>
              <a:t>x</a:t>
            </a:r>
            <a:r>
              <a:rPr b="1" i="1" lang="fr-FR" sz="2800" spc="-1" strike="noStrike">
                <a:solidFill>
                  <a:srgbClr val="333399"/>
                </a:solidFill>
                <a:latin typeface="Times New Roman"/>
              </a:rPr>
              <a:t>,y,y,</a:t>
            </a:r>
            <a:r>
              <a:rPr b="1" i="1" lang="fr-FR" sz="2800" spc="-1" strike="noStrike">
                <a:solidFill>
                  <a:srgbClr val="ffcf01"/>
                </a:solidFill>
                <a:latin typeface="Times New Roman"/>
              </a:rPr>
              <a:t>x</a:t>
            </a:r>
            <a:r>
              <a:rPr b="1" i="1" lang="fr-FR" sz="2800" spc="-1" strike="noStrike">
                <a:solidFill>
                  <a:srgbClr val="333399"/>
                </a:solidFill>
                <a:latin typeface="Times New Roman"/>
              </a:rPr>
              <a:t>,y,y,</a:t>
            </a:r>
            <a:r>
              <a:rPr b="1" i="1" lang="fr-FR" sz="2800" spc="-1" strike="noStrike">
                <a:solidFill>
                  <a:srgbClr val="ffcf01"/>
                </a:solidFill>
                <a:latin typeface="Times New Roman"/>
              </a:rPr>
              <a:t>x</a:t>
            </a:r>
            <a:r>
              <a:rPr b="1" i="1" lang="fr-FR" sz="2800" spc="-1" strike="noStrike">
                <a:solidFill>
                  <a:srgbClr val="333399"/>
                </a:solidFill>
                <a:latin typeface="Times New Roman"/>
              </a:rPr>
              <a:t>,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63640" y="4060800"/>
            <a:ext cx="719280" cy="230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3411360"/>
            <a:ext cx="720720" cy="36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95640" y="3411360"/>
            <a:ext cx="720720" cy="360720"/>
          </a:xfrm>
          <a:prstGeom prst="rect">
            <a:avLst/>
          </a:prstGeom>
          <a:solidFill>
            <a:srgbClr val="ff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56360" y="3411360"/>
            <a:ext cx="720720" cy="360720"/>
          </a:xfrm>
          <a:prstGeom prst="rect">
            <a:avLst/>
          </a:prstGeom>
          <a:solidFill>
            <a:srgbClr val="99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16360" y="3411360"/>
            <a:ext cx="720720" cy="360720"/>
          </a:xfrm>
          <a:prstGeom prst="rect">
            <a:avLst/>
          </a:prstGeom>
          <a:solidFill>
            <a:srgbClr val="cc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35640" y="3411360"/>
            <a:ext cx="720720" cy="360720"/>
          </a:xfrm>
          <a:prstGeom prst="rect">
            <a:avLst/>
          </a:prstGeom>
          <a:solidFill>
            <a:srgbClr val="33cc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栈输出的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114-5A8D-4EE9-AE84-6F27993AE40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761B5-7287-4436-8ED1-B89BA115DEEB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0.00023 L -0.16545 0.00023 L -0.16545 0.38289 E">
                                      <p:cBhvr>
                                        <p:cTn id="72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58 -0.00185 L -0.24254 -0.00185 L -0.2441 0.33063 E">
                                      <p:cBhvr>
                                        <p:cTn id="76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02 0.00624 L -0.32292 0.00855 L -0.32292 0.27815 E">
                                      <p:cBhvr>
                                        <p:cTn id="80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92 0.19838 L -0.32292 -0.00509 L -0.11823 -0.00509 L -0.12083 0.23607 E">
                                      <p:cBhvr>
                                        <p:cTn id="84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1 0.28855 L -0.2441 0.00925 L 0.03941 0.00555 L 0.03837 0.23815 E">
                                      <p:cBhvr>
                                        <p:cTn id="88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3 -0.04116 L -0.39982 -0.0363 L -0.40156 0.33063 E">
                                      <p:cBhvr>
                                        <p:cTn id="92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156 0.33063 L -0.40329 0.01618 L -0.03941 0.01618 L -0.03715 0.23607 E">
                                      <p:cBhvr>
                                        <p:cTn id="96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45 0.36208 L -0.16545 0.03884 L 0.27604 0.03953 L 0.27761 0.23676 E">
                                      <p:cBhvr>
                                        <p:cTn id="100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27 -0.01526 L -0.47882 -0.02197 L -0.47986 0.37572 E">
                                      <p:cBhvr>
                                        <p:cTn id="104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38 0.37248 L -0.47864 0.01595 L 0.04427 0.02265 L 0.0415 0.23468 E">
                                      <p:cBhvr>
                                        <p:cTn id="108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栈输出的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39640" y="5445000"/>
                <a:ext cx="7344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324000" y="1268280"/>
            <a:ext cx="352728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0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对角线的非降路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-1,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降路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0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径总数为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(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-1,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径数为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(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08000" y="1197000"/>
            <a:ext cx="9144000" cy="3915720"/>
            <a:chOff x="108000" y="1197000"/>
            <a:chExt cx="9144000" cy="3915720"/>
          </a:xfrm>
        </p:grpSpPr>
        <p:grpSp>
          <p:nvGrpSpPr>
            <p:cNvPr id="463" name=""/>
            <p:cNvGrpSpPr/>
            <p:nvPr/>
          </p:nvGrpSpPr>
          <p:grpSpPr>
            <a:xfrm>
              <a:off x="108000" y="1197000"/>
              <a:ext cx="9144000" cy="3492360"/>
              <a:chOff x="108000" y="1197000"/>
              <a:chExt cx="9144000" cy="3492360"/>
            </a:xfrm>
          </p:grpSpPr>
          <p:sp>
            <p:nvSpPr>
              <p:cNvPr id="464" name=""/>
              <p:cNvSpPr/>
              <p:nvPr/>
            </p:nvSpPr>
            <p:spPr>
              <a:xfrm>
                <a:off x="4967280" y="2060640"/>
                <a:ext cx="2592360" cy="2592360"/>
              </a:xfrm>
              <a:custGeom>
                <a:avLst/>
                <a:gdLst/>
                <a:ahLst/>
                <a:rect l="l" t="t" r="r" b="b"/>
                <a:pathLst>
                  <a:path w="1633" h="1633">
                    <a:moveTo>
                      <a:pt x="0" y="1633"/>
                    </a:moveTo>
                    <a:lnTo>
                      <a:pt x="499" y="1633"/>
                    </a:lnTo>
                    <a:lnTo>
                      <a:pt x="499" y="817"/>
                    </a:lnTo>
                    <a:lnTo>
                      <a:pt x="1361" y="817"/>
                    </a:lnTo>
                    <a:lnTo>
                      <a:pt x="1361" y="272"/>
                    </a:lnTo>
                    <a:lnTo>
                      <a:pt x="1633" y="272"/>
                    </a:lnTo>
                    <a:lnTo>
                      <a:pt x="1633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464000" y="3357360"/>
                <a:ext cx="1295640" cy="792360"/>
              </a:xfrm>
              <a:custGeom>
                <a:avLst/>
                <a:gdLst/>
                <a:ahLst/>
                <a:rect l="l" t="t" r="r" b="b"/>
                <a:pathLst>
                  <a:path w="816" h="499">
                    <a:moveTo>
                      <a:pt x="816" y="0"/>
                    </a:moveTo>
                    <a:lnTo>
                      <a:pt x="0" y="0"/>
                    </a:lnTo>
                    <a:lnTo>
                      <a:pt x="0" y="499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108000" y="1197000"/>
                <a:ext cx="9144000" cy="3492360"/>
                <a:chOff x="108000" y="1197000"/>
                <a:chExt cx="9144000" cy="349236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108000" y="1197000"/>
                  <a:ext cx="9144000" cy="3456000"/>
                  <a:chOff x="108000" y="1197000"/>
                  <a:chExt cx="9144000" cy="34560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V="1">
                    <a:off x="4464000" y="1628280"/>
                    <a:ext cx="0" cy="302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V="1">
                    <a:off x="4464000" y="2060280"/>
                    <a:ext cx="2592360" cy="259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08000" y="2998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319640" y="4653000"/>
                    <a:ext cx="453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V="1">
                    <a:off x="4967280" y="119700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V="1">
                    <a:off x="4967280" y="1341000"/>
                    <a:ext cx="3313080" cy="331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967280" y="2060640"/>
                    <a:ext cx="259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559640" y="2060640"/>
                    <a:ext cx="0" cy="259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>
                  <a:off x="4392720" y="45813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896000" y="45813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88360" y="198900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88000" y="328428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392720" y="407664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1" name=""/>
            <p:cNvSpPr/>
            <p:nvPr/>
          </p:nvSpPr>
          <p:spPr>
            <a:xfrm>
              <a:off x="7632720" y="1773000"/>
              <a:ext cx="73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80000" y="4653000"/>
              <a:ext cx="70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,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86920" y="4653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1,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99640" y="3789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1,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609-19F6-4930-A86D-8AEC5F06C93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D0333-C757-4C1A-9E80-DFC9E7CEE30D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108000" y="2565360"/>
          <a:ext cx="9001080" cy="346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565360"/>
                    <a:ext cx="900108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826920" y="134136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{1, 2, …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{1, 2, …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50920" y="260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函数计数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72D-B65C-4534-9E69-6CB618CD40F2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17D2A-A38F-40DC-943B-E457013BB96F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-189000" y="39330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04880" y="1341360"/>
            <a:ext cx="761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2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正整数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实数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, 2, … 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332000" y="1916280"/>
                <a:ext cx="662472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1700280" y="2924280"/>
            <a:ext cx="53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和是对满足方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…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切非负整数解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757080" y="5545080"/>
                <a:ext cx="74916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!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94" name=""/>
          <p:cNvGrpSpPr/>
          <p:nvPr/>
        </p:nvGrpSpPr>
        <p:grpSpPr>
          <a:xfrm>
            <a:off x="395280" y="3573360"/>
            <a:ext cx="8353440" cy="1992600"/>
            <a:chOff x="395280" y="3573360"/>
            <a:chExt cx="8353440" cy="1992600"/>
          </a:xfrm>
        </p:grpSpPr>
        <p:sp>
          <p:nvSpPr>
            <p:cNvPr id="495" name=""/>
            <p:cNvSpPr/>
            <p:nvPr/>
          </p:nvSpPr>
          <p:spPr>
            <a:xfrm>
              <a:off x="395280" y="4065480"/>
              <a:ext cx="835344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在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因式中选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因式贡献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从剩下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因式选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因式贡献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…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从剩下的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i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zh-CN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因式中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因式贡献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6" name=""/>
                <p:cNvSpPr txBox="1"/>
                <p:nvPr/>
              </p:nvSpPr>
              <p:spPr>
                <a:xfrm>
                  <a:off x="3510000" y="3573360"/>
                  <a:ext cx="228600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p>
                          </m:sSup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p>
                          </m:sSup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97" name=""/>
            <p:cNvSpPr/>
            <p:nvPr/>
          </p:nvSpPr>
          <p:spPr>
            <a:xfrm>
              <a:off x="755640" y="3692160"/>
              <a:ext cx="331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明  展开式中的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23160" y="37177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是如下构成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2.4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多项式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定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C34-C410-4C12-BEDF-FE2582061DC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57671-E6C9-40EF-AA4B-87EB478E5A35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推论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7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推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项式展开式中不同的项数为方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负整数解的个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+ t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推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1701720" y="2511360"/>
                <a:ext cx="266076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763640" y="1844640"/>
                <a:ext cx="2952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821880" y="3860640"/>
            <a:ext cx="5140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系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由多项式定理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403280" y="4940280"/>
                <a:ext cx="6553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419-7FA7-418E-BBBD-79745E8042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9CFF0-D358-4F59-A969-729831E736C9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多项式系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2475000"/>
            <a:ext cx="82692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项式系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重集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全排列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的球放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的盒子使得第一个盒子含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，第二个盒子含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，…，第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盒子含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的方案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476360" y="1341360"/>
                <a:ext cx="3384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!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539640" y="155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3A1-55FA-485F-ABBC-6B8C5A782EC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6365F-8678-46EF-B0E8-6A812B6D9BF6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第十二章 习题课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09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本计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数法则：加法法则、乘法法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数模型：选取问题、非降路径问题、方程的非负整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理方法：分类处理、分步处理、一一对应思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数符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数或二项式系数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组合恒等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列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,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项式系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1950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项式定理与多项式定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570040" y="5084640"/>
                <a:ext cx="13478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87E-1140-4F49-8C4F-C0C6658A62A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231CC-ABF0-4CA3-A75F-F4C35FBC7E3B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基本要求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熟练使用加法法则与乘法法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熟悉和应用基本的组合计数模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取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方程的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降路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熟悉二项式定理与多项式定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证明组合恒等式并对二项式系数进行求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了解多项式系数及其相关公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B1F-2107-49CD-A5A7-68999B5401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B61C6-277E-4986-BDBC-224973D91118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MS PMincho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333399"/>
                </a:solidFill>
                <a:latin typeface="Arial Black"/>
              </a:rPr>
              <a:t>基本的组合计数</a:t>
            </a:r>
            <a:endParaRPr b="1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不同的正因子个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9640" y="2133720"/>
            <a:ext cx="820908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1280" y="1916280"/>
            <a:ext cx="82087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素因子分解式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400 = 2</a:t>
            </a:r>
            <a:r>
              <a:rPr b="1" lang="fr-F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任何正因子都具有下述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fr-FR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fr-FR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fr-FR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中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3, 0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2,  0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乘法法则，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正因子数是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选法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(1+3)(1+2)(1+1)=24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5E9-635F-4CB6-B091-1D5710061C9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3B217-9914-4D2A-A697-195A7D70A49C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：基本的组合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的球放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不同的盒子里，允许空盒，且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盒子球的总数至多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问有多少种方法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8360" y="2060640"/>
            <a:ext cx="82818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根据前两个盒子含球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放法分类，其中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,1,2,3,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给定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分步处理计算放球的方法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中选放入前两个盒子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，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0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法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选好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分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盒子里，每个球可以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选择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分法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剩下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分到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盒子里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分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乘法法则，使得前两个盒子含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的放法数是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0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使用加法法则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和，就得到所求的方法数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916360" y="5734080"/>
                <a:ext cx="33703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5791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30E-A535-4D19-8D91-8BCAE6BD89F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99224-782E-4EC2-A86E-EAADA110592D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2.1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加法法则与乘法法则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法法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法法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类处理与分步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273-4FB7-41B5-AD8A-7CA01D5D09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2492A-A729-4426-8998-0CE7E745497A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由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序列，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正整数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果要求每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面至少紧跟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有多少个不同的序列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280" y="2565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只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后，在每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位置中选择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位置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：基本的组合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9" name=""/>
          <p:cNvSpPr/>
          <p:nvPr/>
        </p:nvSpPr>
        <p:spPr>
          <a:xfrm>
            <a:off x="468360" y="3716280"/>
            <a:ext cx="8136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只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每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作格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格板构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空格，在空格中放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相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… +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负整数解的个数，因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A88-7FD0-4E01-B4F8-A11E3B908AB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ECEA9-E808-4E64-8450-286B5DE27E2C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按照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,1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有序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定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数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剩下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元素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选法，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乘法法则，这样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使用加法法则和二项式定理，从而得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424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集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满足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有序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个数，用二项式定理证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042920" y="4149720"/>
                <a:ext cx="70660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468360" y="5084640"/>
            <a:ext cx="8280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每个元素可以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选法：同时加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加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不加入； 因此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总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选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C53-FEB8-4651-8380-51A893DFB4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D831B-1F70-4C19-BAAB-13250AC83DE3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56200" y="1052640"/>
            <a:ext cx="4804920" cy="985680"/>
            <a:chOff x="556200" y="1052640"/>
            <a:chExt cx="4804920" cy="985680"/>
          </a:xfrm>
        </p:grpSpPr>
        <mc:AlternateContent>
          <mc:Choice xmlns:a14="http://schemas.microsoft.com/office/drawing/2010/main" Requires="a14">
            <p:sp>
              <p:nvSpPr>
                <p:cNvPr id="538" name=""/>
                <p:cNvSpPr txBox="1"/>
                <p:nvPr/>
              </p:nvSpPr>
              <p:spPr>
                <a:xfrm>
                  <a:off x="1835280" y="1052640"/>
                  <a:ext cx="3525840" cy="98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n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</m:e>
                      </m:nary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9" name=""/>
            <p:cNvSpPr/>
            <p:nvPr/>
          </p:nvSpPr>
          <p:spPr>
            <a:xfrm>
              <a:off x="556200" y="1270080"/>
              <a:ext cx="93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证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476360" y="3141720"/>
                <a:ext cx="48974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1022760" y="2421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已知等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07000" y="452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上述两式相加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763640" y="5315040"/>
                <a:ext cx="41925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=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7E0-F80A-4BAB-A539-49236838668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93E0E-7AD4-420E-8D16-BF7CF4D6F4BA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二  利用积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413000" y="1430280"/>
                <a:ext cx="7162560" cy="26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1332000" y="4508640"/>
                <a:ext cx="684036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1AE-8B13-488F-8FCF-052E938746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B87BF-0488-41B9-8E15-9F0B949D7CFF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2050920" y="1052640"/>
                <a:ext cx="20052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519120" y="12682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39640" y="2205000"/>
                <a:ext cx="7272360" cy="407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m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m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m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m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m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1F1-E4C4-42A2-81C7-B486BA96459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7A205-9B6E-435F-AFE1-B8BEA74CB683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法法则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1341360"/>
            <a:ext cx="799308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加法法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事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方式，事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方式，则 “事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+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条件：事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方式不重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适用问题：分类选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推广：事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方式，事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方式，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的方式，则 “事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 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…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的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D5B-6F80-4548-B119-5DCFE5A9E6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4F19C-62B9-4936-8483-9CACBEE7FA68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乘法法则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339920"/>
            <a:ext cx="756144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乘法法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事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方式，事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方式，则 “事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 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条件：事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方式彼此独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适用问题：分步选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推广：事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方式，事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方式，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件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的方式，则 “事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产生的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CA1-4976-4062-9372-8D0A87504D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7082A-C686-43D0-8FB9-321D59718B05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分类处理与分步处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8720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类处理：对产生方式的集合进行划分，分别计数，然后使用加法法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spcBef>
                <a:spcPts val="1500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步处理：一种产生方式分解为若干独立步骤，对每步分别进行计数，然后使用乘法法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10000"/>
              </a:lnSpc>
              <a:spcBef>
                <a:spcPts val="1500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类与分步结合使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先分类，每类内部分步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先分步，每步又分类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5F0-8BD3-4766-9A86-6C7E921F8F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6BF3F-66D0-4267-B50A-31E22EFB581E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实例：关系计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83412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集，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自反关系有多少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对称关系有多少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反对称关系有多少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函数有多少个？其中双射函数有多少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-4587840" y="2944800"/>
                <a:ext cx="3427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-4587840" y="3713040"/>
                <a:ext cx="4953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-4586400" y="3912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8360" y="3933720"/>
            <a:ext cx="8424720" cy="1728720"/>
            <a:chOff x="468360" y="3933720"/>
            <a:chExt cx="8424720" cy="1728720"/>
          </a:xfrm>
        </p:grpSpPr>
        <p:sp>
          <p:nvSpPr>
            <p:cNvPr id="130" name=""/>
            <p:cNvSpPr/>
            <p:nvPr/>
          </p:nvSpPr>
          <p:spPr>
            <a:xfrm>
              <a:off x="468360" y="3933720"/>
              <a:ext cx="842472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2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考虑对称关系的矩阵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行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元素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ij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1" i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j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能够独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选择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位置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/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加上主对角线的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位置，总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/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位置，每个位置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选择，根据乘法法则，构成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阵的方法数是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2412720" y="5178240"/>
                  <a:ext cx="115848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430200" y="2708280"/>
            <a:ext cx="8353440" cy="1300320"/>
            <a:chOff x="430200" y="2708280"/>
            <a:chExt cx="8353440" cy="1300320"/>
          </a:xfrm>
        </p:grpSpPr>
        <p:sp>
          <p:nvSpPr>
            <p:cNvPr id="133" name=""/>
            <p:cNvSpPr/>
            <p:nvPr/>
          </p:nvSpPr>
          <p:spPr>
            <a:xfrm>
              <a:off x="430200" y="2708280"/>
              <a:ext cx="835344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1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自反关系矩阵中，主对角线元素都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其他位置的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素可以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也可以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选择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这种位置有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，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据乘法法则，自反关系的个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4533840" y="3571920"/>
                  <a:ext cx="61128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183-49D7-40A0-B7D8-EE3E20BF7F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847E1-5116-4904-BECD-9B7E97A4075A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999宝藏网</cp:lastModifiedBy>
  <dcterms:modified xsi:type="dcterms:W3CDTF">2012-05-17T00:50:28Z</dcterms:modified>
  <cp:revision>214</cp:revision>
  <dc:subject>ch1</dc:subject>
  <dc:title>lisan</dc:title>
</cp:coreProperties>
</file>